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80E-5014-401E-90BC-D2BEB3FD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7F0-87F6-494F-9661-58B7225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A4D-BD64-44E5-8C5A-82163493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0EF-FD80-4052-A019-F721F0EB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C0B-FC9A-456A-9E13-CC48B04C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E3F-076C-453C-9BBA-3F2CEA0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7CD-7D0C-46A7-BE72-55CD88A7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6C5-0E26-41DC-9AEB-AC253C5A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971-EFFA-4A7A-B270-B2A6BA70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522-4690-4AB2-94F0-700AC28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FD2-9C5C-4FD1-A49D-A04859B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4FD-832F-4CD6-8CFF-F61349D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C11C-0D5E-48FC-9441-D7D2EB801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Kevin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66080" y="457200"/>
              <a:ext cx="550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My First Solo out to the Training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9" name="Taxiway_b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187640" y="353880"/>
              <a:ext cx="25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axing in to pa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olo%20Cert1" descr=""/>
          <p:cNvPicPr/>
          <p:nvPr/>
        </p:nvPicPr>
        <p:blipFill>
          <a:blip r:embed="rId1"/>
          <a:srcRect l="0" t="0" r="1469" b="0"/>
          <a:stretch/>
        </p:blipFill>
        <p:spPr>
          <a:xfrm>
            <a:off x="197964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9120" y="0"/>
            <a:ext cx="16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olo%20Cert2" descr=""/>
          <p:cNvPicPr/>
          <p:nvPr/>
        </p:nvPicPr>
        <p:blipFill>
          <a:blip r:embed="rId1"/>
          <a:srcRect l="0" t="0" r="893" b="0"/>
          <a:stretch/>
        </p:blipFill>
        <p:spPr>
          <a:xfrm>
            <a:off x="2166840" y="0"/>
            <a:ext cx="47674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1560" y="493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ficial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Kevin_c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79840" y="353880"/>
              <a:ext cx="155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Eagle 1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Eagle150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50800" y="277920"/>
              <a:ext cx="458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Pre flight check before take 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Adventure%20World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008000" y="430200"/>
              <a:ext cx="37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Leaving Jandakot Air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-152280"/>
            <a:ext cx="9448920" cy="7086600"/>
            <a:chOff x="0" y="-152280"/>
            <a:chExt cx="9448920" cy="7086600"/>
          </a:xfrm>
        </p:grpSpPr>
        <p:pic>
          <p:nvPicPr>
            <p:cNvPr id="54" name="Lake%20Thompson" descr=""/>
            <p:cNvPicPr/>
            <p:nvPr/>
          </p:nvPicPr>
          <p:blipFill>
            <a:blip r:embed="rId1"/>
            <a:stretch/>
          </p:blipFill>
          <p:spPr>
            <a:xfrm>
              <a:off x="0" y="-152280"/>
              <a:ext cx="944892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66160" y="353880"/>
              <a:ext cx="41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ockingham in the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296280" cy="6972480"/>
            <a:chOff x="0" y="0"/>
            <a:chExt cx="9296280" cy="6972480"/>
          </a:xfrm>
        </p:grpSpPr>
        <p:pic>
          <p:nvPicPr>
            <p:cNvPr id="57" name="Rockingham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6280" cy="69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09640" y="380880"/>
              <a:ext cx="54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Kwinana Refinery and Garden Is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Shipyards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47080" y="353880"/>
              <a:ext cx="597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hipyards and Garden Island Naval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Perth_b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977760" y="304920"/>
              <a:ext cx="714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Returning to Jandakot Airport with Perth and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wan River in the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" name="Taxiway_a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5480" y="228600"/>
              <a:ext cx="47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axing back to the parking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3:50:10Z</dcterms:created>
  <dc:creator>BDove</dc:creator>
  <dc:description/>
  <dc:language>en-US</dc:language>
  <cp:lastModifiedBy>Plan B</cp:lastModifiedBy>
  <dcterms:modified xsi:type="dcterms:W3CDTF">2003-06-12T04:12:29Z</dcterms:modified>
  <cp:revision>15</cp:revision>
  <dc:subject/>
  <dc:title>PowerPoint Presentation</dc:title>
</cp:coreProperties>
</file>