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70C-83E6-4E73-9F82-3DF724B4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407-65D5-4196-9FC6-E14F6FFB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341-F9C0-471C-8602-DB8378A1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3E7-CD89-4F06-88F7-4F3E09E2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467-F4D4-4547-AA30-C8251034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0F2-7602-4994-8D8E-3D54FFB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D3D-3FD2-439A-B453-3D58F8F7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4EF-BE6B-491A-A6F5-1D3D9161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59A-DCC6-4C5A-9356-EDD9601D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FF0-2931-4CA1-918D-080B9389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A79-943D-4B47-ACC0-644E1039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C0A-032C-4C54-BAF7-99ED62B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82D7-B4BC-4EC7-ADF2-266B7014A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Kevin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66080" y="457200"/>
              <a:ext cx="550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My First Solo out to the Training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9" name="Taxiway_b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187640" y="353880"/>
              <a:ext cx="25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axing in to pa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olo%20Cert1" descr=""/>
          <p:cNvPicPr/>
          <p:nvPr/>
        </p:nvPicPr>
        <p:blipFill>
          <a:blip r:embed="rId1"/>
          <a:srcRect l="0" t="0" r="1469" b="0"/>
          <a:stretch/>
        </p:blipFill>
        <p:spPr>
          <a:xfrm>
            <a:off x="1979640" y="0"/>
            <a:ext cx="51069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9120" y="0"/>
            <a:ext cx="16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olo%20Cert2" descr=""/>
          <p:cNvPicPr/>
          <p:nvPr/>
        </p:nvPicPr>
        <p:blipFill>
          <a:blip r:embed="rId1"/>
          <a:srcRect l="0" t="0" r="893" b="0"/>
          <a:stretch/>
        </p:blipFill>
        <p:spPr>
          <a:xfrm>
            <a:off x="2166840" y="0"/>
            <a:ext cx="47674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1560" y="493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ficial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Kevin_c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79840" y="353880"/>
              <a:ext cx="155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Eagle 1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Eagle150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50800" y="277920"/>
              <a:ext cx="458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Pre flight check before take 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Adventure%20World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08000" y="430200"/>
              <a:ext cx="37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eaving Jandakot Air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-152280"/>
            <a:ext cx="9448920" cy="7086600"/>
            <a:chOff x="0" y="-152280"/>
            <a:chExt cx="9448920" cy="7086600"/>
          </a:xfrm>
        </p:grpSpPr>
        <p:pic>
          <p:nvPicPr>
            <p:cNvPr id="54" name="Lake%20Thompson" descr=""/>
            <p:cNvPicPr/>
            <p:nvPr/>
          </p:nvPicPr>
          <p:blipFill>
            <a:blip r:embed="rId1"/>
            <a:stretch/>
          </p:blipFill>
          <p:spPr>
            <a:xfrm>
              <a:off x="0" y="-152280"/>
              <a:ext cx="944892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66160" y="353880"/>
              <a:ext cx="41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ockingham in the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296280" cy="6972480"/>
            <a:chOff x="0" y="0"/>
            <a:chExt cx="9296280" cy="6972480"/>
          </a:xfrm>
        </p:grpSpPr>
        <p:pic>
          <p:nvPicPr>
            <p:cNvPr id="57" name="Rockingham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96280" cy="69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09640" y="380880"/>
              <a:ext cx="540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Kwinana Refinery and Garden Is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Shipyards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47080" y="353880"/>
              <a:ext cx="597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hipyards and Garden Island Naval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" name="Perth_b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977760" y="304920"/>
              <a:ext cx="714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eturning to Jandakot Airport with Perth and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wan River in the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6" name="Taxiway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5480" y="228600"/>
              <a:ext cx="47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axing back to the parking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3:50:10Z</dcterms:created>
  <dc:creator>BDove</dc:creator>
  <dc:description/>
  <dc:language>en-US</dc:language>
  <cp:lastModifiedBy>Plan B</cp:lastModifiedBy>
  <dcterms:modified xsi:type="dcterms:W3CDTF">2003-06-12T04:12:29Z</dcterms:modified>
  <cp:revision>15</cp:revision>
  <dc:subject/>
  <dc:title>PowerPoint Presentation</dc:title>
</cp:coreProperties>
</file>