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A09C9-EE4F-473F-9E94-D6E3E8F90A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Calibri"/>
              </a:rPr>
              <a:t>Effective Web Desig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</a:rPr>
              <a:t>The language and the typography is important 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Use familiar terms as calls to action – like “sign up” rather than “start now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Don’t write long blocks of text that go from one side of the page to the oth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Use bulleted lists and short concise phra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Use headings etc to create a visual hierarch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Use san-serif fonts and high contrast layou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E4ECA-E734-42D4-9A22-76AAA68C52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Believe it or not people are using keynote and powerpoint to wire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0531D-3BC4-48EA-B3B6-2E5AEC4647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~start opening Dreamwea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3FA7D-0C2B-4E63-BFC5-FDD56430DD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ttp://www.usability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se are the webby award winners for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F30E2-706D-49B7-8FEE-B0B96B1C70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ttp://www.usability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ll government agencies, universities etc have a usability policy for their organisation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4C09C-C85C-4E8E-B90F-ACD9E1BB2B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images can you show on a page – because they will all take a long time to l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ends to lead to flat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demise of flash is largely due to the rise of the mobile de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ideos etc take a long time to parse and l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EB6AE-2E76-41B0-A12D-5A1B901DBB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cument Outline is like a table of 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ttp://html5doctor.com/outline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65F90-86BB-4605-81B2-193A484DE8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tandards are abit like the pirate code – they are more like guidlines r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3AFC0-373B-4051-AFDA-9DCC5FFC9D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World Wide Web Consortium (W3C) is an international community where Member organizations, a full-time staff, and the public work together to develop Web standards. Led by Web inventor Tim Berners-Lee and CEO Jeffrey Jaffe, W3C's mission is to lead the Web to its full potential. Contact W3C for mor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1D67E-8ACB-46C1-9C00-97CF609F2F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search shows people look at websites in the F-pattern shown in the images – first horz along the top, then down the page, then on the left hand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will your user look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rs scan a page – they don’t rea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ood content will overcome any design related shortfa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b users want their information now....NOW.....NOWNOWNOWNOWNOWNOW.............so if the navigation isn’t intuitive – or if they need to think too much...they will leave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long do you stay on a site if you can’t find the info you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will your user look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rs will probably click on the first link that looks reason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rs are going to do what has worked for them in the past – they don’t care about the explanatio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rs want to have control – they don’t like new windows to pop-up – they want the back button to take them back to the previous page etc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C0CF2-0523-4801-B7AC-0FD001A2B4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ee how the eye is drawn to the middle of the page where their specials are being display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Effective Web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Make it simple and don’t forget the white space!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ke it obvious what features are available and how to use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on’t try people’s patience by asking them to fill out forms etc if they are unlikely to return to the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mplify the design and use margins and padding to allow the end users eyes to rest between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AE6F4-50EC-463E-B59E-BEF2D17306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20E-AE57-455D-B6F1-BB3AD6C3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CF8-80FB-4584-9685-4FDDDEAE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ED1-4327-4D7E-B3C6-8AE5273F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6C2-1B5D-496C-B2AC-B21C03C5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B75-5AC3-4E02-914D-7761C00E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7DF-365A-4DF6-BF65-5C0F5AC3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A74-9078-4B04-8799-462C4891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894-A822-4303-8F02-2B60D7B8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E46-A8FA-4421-95FE-C63FC2F4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B42-B63A-41D1-AE00-D09B4AF2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29D-DCEA-42E2-8ADE-B81A19BE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F12-DB16-4E55-B297-A16674B7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BB50A-8781-4005-893B-1D06119AA6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typekit.com/" TargetMode="External"/><Relationship Id="rId2" Type="http://schemas.openxmlformats.org/officeDocument/2006/relationships/hyperlink" Target="https://www.google.com/fonts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s-tricks.com/examples/IconFont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xdesign.smashingmagazine.com/2008/01/31/10-principles-of-effective-web-design/" TargetMode="External"/><Relationship Id="rId2" Type="http://schemas.openxmlformats.org/officeDocument/2006/relationships/hyperlink" Target="http://psd.tutsplus.com/tutorials/designing-tutorials/9-essential-principles-for-good-web-desig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xdesign.smashingmagazine.com/2007/09/27/10-usability-nightmares-you-should-be-aware-of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esign.tutsplus.com/articles/photoshops-role-in-a-web-design-workflow--psd-25137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tchfork.com/features/cover-story/reader/bat-for-lashes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webbyawards.com/winners/201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snedders.html5.org/outliner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w3.org/Consortiu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Design and HTML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970360"/>
            <a:ext cx="7772400" cy="1790640"/>
          </a:xfrm>
          <a:prstGeom prst="rect">
            <a:avLst/>
          </a:prstGeom>
          <a:solidFill>
            <a:srgbClr val="e8950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9080" rIns="19080" tIns="19080" bIns="19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685800" y="5013360"/>
            <a:ext cx="7772400" cy="844560"/>
            <a:chOff x="685800" y="5013360"/>
            <a:chExt cx="7772400" cy="844560"/>
          </a:xfrm>
        </p:grpSpPr>
        <p:sp>
          <p:nvSpPr>
            <p:cNvPr id="51" name="Rectangle 4"/>
            <p:cNvSpPr/>
            <p:nvPr/>
          </p:nvSpPr>
          <p:spPr>
            <a:xfrm>
              <a:off x="685800" y="5013360"/>
              <a:ext cx="1392480" cy="844560"/>
            </a:xfrm>
            <a:prstGeom prst="rect">
              <a:avLst/>
            </a:prstGeom>
            <a:solidFill>
              <a:srgbClr val="e8950e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3875760" y="5013360"/>
              <a:ext cx="1392480" cy="844560"/>
            </a:xfrm>
            <a:prstGeom prst="rect">
              <a:avLst/>
            </a:prstGeom>
            <a:solidFill>
              <a:srgbClr val="732e9a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2280600" y="5013360"/>
              <a:ext cx="1392480" cy="844560"/>
            </a:xfrm>
            <a:prstGeom prst="rect">
              <a:avLst/>
            </a:prstGeom>
            <a:solidFill>
              <a:srgbClr val="b50b1b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5470560" y="5013360"/>
              <a:ext cx="1392480" cy="844560"/>
            </a:xfrm>
            <a:prstGeom prst="rect">
              <a:avLst/>
            </a:prstGeom>
            <a:solidFill>
              <a:srgbClr val="55992b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7065720" y="5013360"/>
              <a:ext cx="1392480" cy="844560"/>
            </a:xfrm>
            <a:prstGeom prst="rect">
              <a:avLst/>
            </a:prstGeom>
            <a:solidFill>
              <a:srgbClr val="2c9c8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441288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96040" indent="-504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50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Sites are using less 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50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Text rarely goes across the width of a p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50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Webfonts are becoming more common such as</a:t>
            </a:r>
            <a:br>
              <a:rPr sz="2600"/>
            </a:br>
            <a:r>
              <a:rPr b="0" lang="en-AU" sz="2600" spc="-1" strike="noStrike" u="sng">
                <a:solidFill>
                  <a:srgbClr val="ec4d4d"/>
                </a:solidFill>
                <a:uFillTx/>
                <a:latin typeface="Calibri"/>
                <a:hlinkClick r:id="rId1"/>
              </a:rPr>
              <a:t>Typekit</a:t>
            </a: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AU" sz="2600" spc="-1" strike="noStrike" u="sng">
                <a:solidFill>
                  <a:srgbClr val="ec4d4d"/>
                </a:solidFill>
                <a:uFillTx/>
                <a:latin typeface="Calibri"/>
                <a:hlinkClick r:id="rId2"/>
              </a:rPr>
              <a:t>Google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50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typekit.png"/>
          <p:cNvPicPr/>
          <p:nvPr/>
        </p:nvPicPr>
        <p:blipFill>
          <a:blip r:embed="rId3"/>
          <a:stretch/>
        </p:blipFill>
        <p:spPr>
          <a:xfrm>
            <a:off x="0" y="0"/>
            <a:ext cx="9144000" cy="4413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How do users interface with the interfa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cons have become extremely popular as a fast and effective way to convey information without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 u="sng">
                <a:solidFill>
                  <a:srgbClr val="ec4d4d"/>
                </a:solidFill>
                <a:uFillTx/>
                <a:latin typeface="Calibri"/>
                <a:hlinkClick r:id="rId1"/>
              </a:rPr>
              <a:t>Icon fonts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re a common way to implement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11280" y="4581360"/>
            <a:ext cx="8075520" cy="1751040"/>
          </a:xfrm>
          <a:prstGeom prst="rect">
            <a:avLst/>
          </a:prstGeom>
          <a:solidFill>
            <a:srgbClr val="e8950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icon.png"/>
          <p:cNvPicPr/>
          <p:nvPr/>
        </p:nvPicPr>
        <p:blipFill>
          <a:blip r:embed="rId2"/>
          <a:stretch/>
        </p:blipFill>
        <p:spPr>
          <a:xfrm>
            <a:off x="108000" y="4762440"/>
            <a:ext cx="9144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Web Design Principles / Usability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leads the ey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takes advantage of appropriate white 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has clear nav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is consistent from one pag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considers the end-users – what information do they need and how are they going to access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utilises good typographic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adheres to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is accessible to 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does what the users exp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 u="sng">
                <a:solidFill>
                  <a:srgbClr val="ec4d4d"/>
                </a:solidFill>
                <a:uFillTx/>
                <a:latin typeface="Calibri"/>
                <a:hlinkClick r:id="rId1"/>
              </a:rPr>
              <a:t>http://uxdesign.smashingmagazine.com/2008/01/31/10-principles-of-effective-web-design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 u="sng">
                <a:solidFill>
                  <a:srgbClr val="ec4d4d"/>
                </a:solidFill>
                <a:uFillTx/>
                <a:latin typeface="Calibri"/>
                <a:hlinkClick r:id="rId2"/>
              </a:rPr>
              <a:t>http://psd.tutsplus.com/tutorials/designing-tutorials/9-essential-principles-for-good-web-design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Design Principles / Us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ability nightma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611280" y="5445000"/>
            <a:ext cx="8075520" cy="881280"/>
          </a:xfrm>
          <a:prstGeom prst="rect">
            <a:avLst/>
          </a:prstGeom>
          <a:solidFill>
            <a:srgbClr val="e8950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What is the least usable site you have ever visit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755640" y="2421000"/>
            <a:ext cx="79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 u="sng">
                <a:solidFill>
                  <a:srgbClr val="ec4d4d"/>
                </a:solidFill>
                <a:uFillTx/>
                <a:latin typeface="Calibri"/>
                <a:hlinkClick r:id="rId1"/>
              </a:rPr>
              <a:t>http://uxdesign.smashingmagazine.com/2007/09/27/10-usability-nightmares-you-should-be-aware-of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Sit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65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tent is king – so the best way to start a website design is to put down all the information that needs to be included in the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ke a hierarchy of info and that will suggest a way that the info should be laid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7362720" y="1600200"/>
            <a:ext cx="1324080" cy="5043600"/>
            <a:chOff x="7362720" y="1600200"/>
            <a:chExt cx="1324080" cy="5043600"/>
          </a:xfrm>
        </p:grpSpPr>
        <p:sp>
          <p:nvSpPr>
            <p:cNvPr id="99" name="Rectangle 3"/>
            <p:cNvSpPr/>
            <p:nvPr/>
          </p:nvSpPr>
          <p:spPr>
            <a:xfrm>
              <a:off x="7686360" y="1600200"/>
              <a:ext cx="1000440" cy="880920"/>
            </a:xfrm>
            <a:prstGeom prst="rect">
              <a:avLst/>
            </a:prstGeom>
            <a:solidFill>
              <a:srgbClr val="e8950e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4"/>
            <p:cNvSpPr/>
            <p:nvPr/>
          </p:nvSpPr>
          <p:spPr>
            <a:xfrm>
              <a:off x="7362720" y="2640600"/>
              <a:ext cx="1000440" cy="880920"/>
            </a:xfrm>
            <a:prstGeom prst="rect">
              <a:avLst/>
            </a:prstGeom>
            <a:solidFill>
              <a:srgbClr val="732e9a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7686360" y="3681360"/>
              <a:ext cx="1000440" cy="880920"/>
            </a:xfrm>
            <a:prstGeom prst="rect">
              <a:avLst/>
            </a:prstGeom>
            <a:solidFill>
              <a:srgbClr val="b50b1b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7391160" y="4722120"/>
              <a:ext cx="1000440" cy="880920"/>
            </a:xfrm>
            <a:prstGeom prst="rect">
              <a:avLst/>
            </a:prstGeom>
            <a:solidFill>
              <a:srgbClr val="55992b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7686360" y="5762880"/>
              <a:ext cx="1000440" cy="880920"/>
            </a:xfrm>
            <a:prstGeom prst="rect">
              <a:avLst/>
            </a:prstGeom>
            <a:solidFill>
              <a:srgbClr val="2c9c8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eb design process has changed a lot with the shift to fluid layouts that are geared towards responsive desig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AU" sz="3200" spc="-1" strike="noStrike" u="sng">
                <a:solidFill>
                  <a:srgbClr val="ec4d4d"/>
                </a:solidFill>
                <a:uFillTx/>
                <a:latin typeface="Calibri"/>
                <a:hlinkClick r:id="rId1"/>
              </a:rPr>
              <a:t>http://design.tutsplus.com/articles/photoshops-role-in-a-web-design-workflow--psd-251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 lot of designers start with simple sket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Wireframes allow designers to experiment with how to effectively display th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Designers will often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ake a visual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ock-up then in a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rogram like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hotoshop –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lthough many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designers now miss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is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C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wireframe-bare.png"/>
          <p:cNvPicPr/>
          <p:nvPr/>
        </p:nvPicPr>
        <p:blipFill>
          <a:blip r:embed="rId1"/>
          <a:stretch/>
        </p:blipFill>
        <p:spPr>
          <a:xfrm>
            <a:off x="4140360" y="2997360"/>
            <a:ext cx="45464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Let’s look at HT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284640"/>
            <a:ext cx="822960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t’s go learn some cod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72836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signing for the web in 2014 is much more about the content of the site and how the information is arranged. Simple or minimal designs are very pop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webby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5520" y="4151160"/>
            <a:ext cx="4075200" cy="1941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webby2.png"/>
          <p:cNvPicPr/>
          <p:nvPr/>
        </p:nvPicPr>
        <p:blipFill>
          <a:blip r:embed="rId3"/>
          <a:stretch/>
        </p:blipFill>
        <p:spPr>
          <a:xfrm>
            <a:off x="4643280" y="4151160"/>
            <a:ext cx="4024440" cy="1941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2354400" y="6294600"/>
            <a:ext cx="38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 u="sng">
                <a:solidFill>
                  <a:srgbClr val="ec4d4d"/>
                </a:solidFill>
                <a:uFillTx/>
                <a:latin typeface="Calibri"/>
                <a:hlinkClick r:id="rId4"/>
              </a:rPr>
              <a:t>Webby award winners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28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Factors that have led to content being king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honeycomb.jpg"/>
          <p:cNvPicPr/>
          <p:nvPr/>
        </p:nvPicPr>
        <p:blipFill>
          <a:blip r:embed="rId1"/>
          <a:stretch/>
        </p:blipFill>
        <p:spPr>
          <a:xfrm>
            <a:off x="5076720" y="2565360"/>
            <a:ext cx="3830760" cy="4003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468360" y="2565360"/>
            <a:ext cx="460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732e9a"/>
                </a:solidFill>
                <a:latin typeface="Calibri"/>
              </a:rPr>
              <a:t>Usability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– or the ease of use of a site has become a big priority, especially for large corporations and government ag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Devices.png"/>
          <p:cNvPicPr/>
          <p:nvPr/>
        </p:nvPicPr>
        <p:blipFill>
          <a:blip r:embed="rId1"/>
          <a:stretch/>
        </p:blipFill>
        <p:spPr>
          <a:xfrm>
            <a:off x="4500720" y="2622600"/>
            <a:ext cx="4186080" cy="36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457200" y="2622600"/>
            <a:ext cx="3898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ecause sites are shown on mobile platforms as well as desktops today – other factors such as data limits and lag times for mobiles affect what can be sh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HTML5_Logo_512.png"/>
          <p:cNvPicPr/>
          <p:nvPr/>
        </p:nvPicPr>
        <p:blipFill>
          <a:blip r:embed="rId1"/>
          <a:stretch/>
        </p:blipFill>
        <p:spPr>
          <a:xfrm>
            <a:off x="6103800" y="3573360"/>
            <a:ext cx="2583000" cy="2581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2836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TML5 is becoming the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eb standard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d it’s biggest focus is on semantic co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mantic code reinforces the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ning of the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emphasises that website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hould have a hierarchy of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tent – which it calls the </a:t>
            </a:r>
            <a:br>
              <a:rPr sz="3200"/>
            </a:br>
            <a:r>
              <a:rPr b="0" lang="en-AU" sz="3200" spc="-1" strike="noStrike" u="sng">
                <a:solidFill>
                  <a:srgbClr val="ec4d4d"/>
                </a:solidFill>
                <a:uFillTx/>
                <a:latin typeface="Calibri"/>
                <a:hlinkClick r:id="rId2"/>
              </a:rPr>
              <a:t>Documen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72836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are web standard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eb standards are rules to ensure that we make the most concise, clear code that is accessible to 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eb standards are developed and delivered by the W3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w3c.jpg"/>
          <p:cNvPicPr/>
          <p:nvPr/>
        </p:nvPicPr>
        <p:blipFill>
          <a:blip r:embed="rId1"/>
          <a:stretch/>
        </p:blipFill>
        <p:spPr>
          <a:xfrm>
            <a:off x="7000920" y="4797360"/>
            <a:ext cx="133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4" descr="bernersLee.bmp"/>
          <p:cNvPicPr/>
          <p:nvPr/>
        </p:nvPicPr>
        <p:blipFill>
          <a:blip r:embed="rId1"/>
          <a:stretch/>
        </p:blipFill>
        <p:spPr>
          <a:xfrm>
            <a:off x="6114960" y="3432240"/>
            <a:ext cx="2479680" cy="2968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72836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Who are the </a:t>
            </a:r>
            <a:r>
              <a:rPr b="0" lang="en-AU" sz="3000" spc="-1" strike="noStrike" u="sng">
                <a:solidFill>
                  <a:srgbClr val="ec4d4d"/>
                </a:solidFill>
                <a:uFillTx/>
                <a:latin typeface="Calibri"/>
                <a:hlinkClick r:id="rId2"/>
              </a:rPr>
              <a:t>W3C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world wide web consortium – is a community of member organizations, the w3c staff and the web development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community. They work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ogether to try to develop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tandards for the WW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Led by Tim Berners-Lee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( inventor of the internet) and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Jeffry Jaf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How do users interface with the interfa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scan they don’t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start from the top l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expect what they have seen before – so if something is underlined it’s probably a l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like to keep control so things like pop-ups are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f_reading_pattern_eyetracking.jpg"/>
          <p:cNvPicPr/>
          <p:nvPr/>
        </p:nvPicPr>
        <p:blipFill>
          <a:blip r:embed="rId1"/>
          <a:stretch/>
        </p:blipFill>
        <p:spPr>
          <a:xfrm>
            <a:off x="4284720" y="4522680"/>
            <a:ext cx="421488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amazon.png"/>
          <p:cNvPicPr/>
          <p:nvPr/>
        </p:nvPicPr>
        <p:blipFill>
          <a:blip r:embed="rId1"/>
          <a:stretch/>
        </p:blipFill>
        <p:spPr>
          <a:xfrm>
            <a:off x="2892600" y="3068640"/>
            <a:ext cx="5794200" cy="3192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</p:pic>
      <p:sp>
        <p:nvSpPr>
          <p:cNvPr id="8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ngs that are important in all designs are important on the web – so colours and contrast etc will say something about your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ite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pace is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ill very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mpor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How do users interface with the interfa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7:12:17Z</dcterms:created>
  <dc:creator>Aaron Burnette</dc:creator>
  <dc:description/>
  <dc:language>en-US</dc:language>
  <cp:lastModifiedBy>Roger Blatchford</cp:lastModifiedBy>
  <dcterms:modified xsi:type="dcterms:W3CDTF">2014-10-14T13:01:15Z</dcterms:modified>
  <cp:revision>87</cp:revision>
  <dc:subject/>
  <dc:title>BCM 130 Week 2</dc:title>
</cp:coreProperties>
</file>