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B22BD-B4F6-43BE-859F-E6ADDA12DC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Calibri"/>
              </a:rPr>
              <a:t>Effective Web Desig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alibri"/>
              </a:rPr>
              <a:t>The language and the typography is important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familiar terms as calls to action – like “sign up” rather than “start now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on’t write long blocks of text that go from one side of the page to the oth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bulleted lists and short concise phr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headings etc to create a visual hierarch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se san-serif fonts and high contrast layou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076F8-E801-489A-968C-E8EB426FE6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Believe it or not people are using keynote and powerpoint to wire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E86A6-E740-4ED9-B102-98EBA3E3B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~start opening Dreamwea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AE6FD-0C21-4EB3-A1C9-4E6C12EBC0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www.usability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se are the webby award winners for 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D2CC0-E30D-418B-B275-B400B10825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www.usability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ll government agencies, universities etc have a usability policy for their organisation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26215-3485-4FCD-92DC-7D3D658FC6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many images can you show on a page – because they will all take a long time to l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ends to lead to flat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demise of flash is largely due to the rise of the mobile de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ideos etc take a long time to parse and l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9E686-1B0C-4987-B843-16F4036FB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Document Outline is like a table of 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ttp://html5doctor.com/outline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1F9B1-60CA-4AAE-BB59-C04546ABB2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tandards are abit like the pirate code – they are more like guidlines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18F34-BB5D-4CFF-9A8C-2078A54EA8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World Wide Web Consortium (W3C) is an international community where Member organizations, a full-time staff, and the public work together to develop Web standards. Led by Web inventor Tim Berners-Lee and CEO Jeffrey Jaffe, W3C's mission is to lead the Web to its full potential. Contact W3C for mor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ADCAE-EDFD-4D37-A190-B06CAEF9B3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Research shows people look at websites in the F-pattern shown in the images – first horz along the top, then down the page, then on the left hand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will your user look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scan a page – they don’t rea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ood content will overcome any design related shortfa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b users want their information now....NOW.....NOWNOWNOWNOWNOWNOW.............so if the navigation isn’t intuitive – or if they need to think too much...they will leave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long do you stay on a site if you can’t find the inf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will your user look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will probably click on the first link that looks reason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are going to do what has worked for them in the past – they don’t care about the explanatio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rs want to have control – they don’t like new windows to pop-up – they want the back button to take them back to the previous page etc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BF24C-1AC2-450F-9A86-BA59E0DE80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ee how the eye is drawn to the middle of the page where their specials are being display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Effective Web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Calibri"/>
              </a:rPr>
              <a:t>Make it simple and don’t forget the white space!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ke it obvious what features are available and how to use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on’t try people’s patience by asking them to fill out forms etc if they are unlikely to return to the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mplify the design and use margins and padding to allow the end users eyes to rest between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80A38-9B9C-430B-B9AD-7F04E5929D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D23-49E7-45DA-B785-D0DE5042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2582-D10C-4B2B-B51F-55C49C56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38C-E611-4468-BB15-1C220E16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090-C70B-4CBC-BC53-423C1A9D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48B-60F0-4BAE-BDBB-3F34A23E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905-5145-4252-ABE6-BA68AAA5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ADE-A520-4D46-B3F5-5E8BA125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AFF-15DE-45FB-BB39-1C71824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419-919B-42D7-97C4-93243011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29F7-336F-46E6-B698-DEE7207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104-8C3C-4AFC-8E63-2F00B72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B3A-6DA1-4D9A-A8B3-34E5EDF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79153-55C8-4D58-A74C-358A93220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typekit.com/" TargetMode="External"/><Relationship Id="rId2" Type="http://schemas.openxmlformats.org/officeDocument/2006/relationships/hyperlink" Target="https://www.google.com/font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s-tricks.com/examples/IconFont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xdesign.smashingmagazine.com/2008/01/31/10-principles-of-effective-web-design/" TargetMode="External"/><Relationship Id="rId2" Type="http://schemas.openxmlformats.org/officeDocument/2006/relationships/hyperlink" Target="http://psd.tutsplus.com/tutorials/designing-tutorials/9-essential-principles-for-good-web-desig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xdesign.smashingmagazine.com/2007/09/27/10-usability-nightmares-you-should-be-aware-of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esign.tutsplus.com/articles/photoshops-role-in-a-web-design-workflow--psd-25137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tchfork.com/features/cover-story/reader/bat-for-lashes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webbyawards.com/winners/201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snedders.html5.org/outliner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w3.org/Consortiu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 and HTML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970360"/>
            <a:ext cx="7772400" cy="1790640"/>
          </a:xfrm>
          <a:prstGeom prst="rect">
            <a:avLst/>
          </a:prstGeom>
          <a:solidFill>
            <a:srgbClr val="e8950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9080" rIns="19080" tIns="19080" bIns="19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685800" y="5013360"/>
            <a:ext cx="7772400" cy="844560"/>
            <a:chOff x="685800" y="5013360"/>
            <a:chExt cx="7772400" cy="844560"/>
          </a:xfrm>
        </p:grpSpPr>
        <p:sp>
          <p:nvSpPr>
            <p:cNvPr id="51" name="Rectangle 4"/>
            <p:cNvSpPr/>
            <p:nvPr/>
          </p:nvSpPr>
          <p:spPr>
            <a:xfrm>
              <a:off x="685800" y="5013360"/>
              <a:ext cx="1392480" cy="844560"/>
            </a:xfrm>
            <a:prstGeom prst="rect">
              <a:avLst/>
            </a:prstGeom>
            <a:solidFill>
              <a:srgbClr val="e8950e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3875760" y="5013360"/>
              <a:ext cx="1392480" cy="844560"/>
            </a:xfrm>
            <a:prstGeom prst="rect">
              <a:avLst/>
            </a:prstGeom>
            <a:solidFill>
              <a:srgbClr val="732e9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2280600" y="5013360"/>
              <a:ext cx="1392480" cy="844560"/>
            </a:xfrm>
            <a:prstGeom prst="rect">
              <a:avLst/>
            </a:prstGeom>
            <a:solidFill>
              <a:srgbClr val="b50b1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5470560" y="5013360"/>
              <a:ext cx="1392480" cy="844560"/>
            </a:xfrm>
            <a:prstGeom prst="rect">
              <a:avLst/>
            </a:prstGeom>
            <a:solidFill>
              <a:srgbClr val="55992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7065720" y="5013360"/>
              <a:ext cx="1392480" cy="844560"/>
            </a:xfrm>
            <a:prstGeom prst="rect">
              <a:avLst/>
            </a:prstGeom>
            <a:solidFill>
              <a:srgbClr val="2c9c8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41288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96040" indent="-504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Sites are using less 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Text rarely goes across the width of a p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Webfonts are becoming more common such as</a:t>
            </a:r>
            <a:br>
              <a:rPr sz="2600"/>
            </a:br>
            <a:r>
              <a:rPr b="0" lang="en-AU" sz="26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Typekit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AU" sz="26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Google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504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typekit.png"/>
          <p:cNvPicPr/>
          <p:nvPr/>
        </p:nvPicPr>
        <p:blipFill>
          <a:blip r:embed="rId3"/>
          <a:stretch/>
        </p:blipFill>
        <p:spPr>
          <a:xfrm>
            <a:off x="0" y="0"/>
            <a:ext cx="9144000" cy="4413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w do users interface with the interf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cons have become extremely popular as a fast and effective way to convey information without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Icon fonts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a common way to implemen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11280" y="4581360"/>
            <a:ext cx="8075520" cy="1751040"/>
          </a:xfrm>
          <a:prstGeom prst="rect">
            <a:avLst/>
          </a:prstGeom>
          <a:solidFill>
            <a:srgbClr val="e8950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icon.png"/>
          <p:cNvPicPr/>
          <p:nvPr/>
        </p:nvPicPr>
        <p:blipFill>
          <a:blip r:embed="rId2"/>
          <a:stretch/>
        </p:blipFill>
        <p:spPr>
          <a:xfrm>
            <a:off x="108000" y="4762440"/>
            <a:ext cx="91440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Web Design Principles / Usability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leads the e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takes advantage of appropriate white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has clear nav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is consistent from one pag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considers the end-users – what information do they need and how are they going to access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utilises good typographic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adheres to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is accessible to 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ood design does what the users ex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http://uxdesign.smashingmagazine.com/2008/01/31/10-principles-of-effective-web-design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http://psd.tutsplus.com/tutorials/designing-tutorials/9-essential-principles-for-good-web-design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 Principles / Us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ability nightma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11280" y="5445000"/>
            <a:ext cx="8075520" cy="881280"/>
          </a:xfrm>
          <a:prstGeom prst="rect">
            <a:avLst/>
          </a:prstGeom>
          <a:solidFill>
            <a:srgbClr val="e8950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What is the least usable site you have ever visit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55640" y="2421000"/>
            <a:ext cx="79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http://uxdesign.smashingmagazine.com/2007/09/27/10-usability-nightmares-you-should-be-aware-of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it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65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ent is king – so the best way to start a website design is to put down all the information that needs to be included in the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ake a hierarchy of info and that will suggest a way that the info should be lai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7362720" y="1600200"/>
            <a:ext cx="1324080" cy="5043600"/>
            <a:chOff x="7362720" y="1600200"/>
            <a:chExt cx="1324080" cy="5043600"/>
          </a:xfrm>
        </p:grpSpPr>
        <p:sp>
          <p:nvSpPr>
            <p:cNvPr id="99" name="Rectangle 3"/>
            <p:cNvSpPr/>
            <p:nvPr/>
          </p:nvSpPr>
          <p:spPr>
            <a:xfrm>
              <a:off x="7686360" y="1600200"/>
              <a:ext cx="1000440" cy="880920"/>
            </a:xfrm>
            <a:prstGeom prst="rect">
              <a:avLst/>
            </a:prstGeom>
            <a:solidFill>
              <a:srgbClr val="e8950e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7362720" y="2640600"/>
              <a:ext cx="1000440" cy="880920"/>
            </a:xfrm>
            <a:prstGeom prst="rect">
              <a:avLst/>
            </a:prstGeom>
            <a:solidFill>
              <a:srgbClr val="732e9a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686360" y="3681360"/>
              <a:ext cx="1000440" cy="880920"/>
            </a:xfrm>
            <a:prstGeom prst="rect">
              <a:avLst/>
            </a:prstGeom>
            <a:solidFill>
              <a:srgbClr val="b50b1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7391160" y="4722120"/>
              <a:ext cx="1000440" cy="880920"/>
            </a:xfrm>
            <a:prstGeom prst="rect">
              <a:avLst/>
            </a:prstGeom>
            <a:solidFill>
              <a:srgbClr val="55992b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7686360" y="5762880"/>
              <a:ext cx="1000440" cy="880920"/>
            </a:xfrm>
            <a:prstGeom prst="rect">
              <a:avLst/>
            </a:prstGeom>
            <a:solidFill>
              <a:srgbClr val="2c9c8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design process has changed a lot with the shift to fluid layouts that are geared towards responsive desig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AU" sz="3200" spc="-1" strike="noStrike" u="sng">
                <a:solidFill>
                  <a:srgbClr val="ec4d4d"/>
                </a:solidFill>
                <a:uFillTx/>
                <a:latin typeface="Calibri"/>
                <a:hlinkClick r:id="rId1"/>
              </a:rPr>
              <a:t>http://design.tutsplus.com/articles/photoshops-role-in-a-web-design-workflow--psd-251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 lot of designers start with simple sket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ireframes allow designers to experiment with how to effectively display the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signers will often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ke a visual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ock-up then in a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rogram like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Photoshop –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lthough many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esigners now miss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is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wireframe-bare.png"/>
          <p:cNvPicPr/>
          <p:nvPr/>
        </p:nvPicPr>
        <p:blipFill>
          <a:blip r:embed="rId1"/>
          <a:stretch/>
        </p:blipFill>
        <p:spPr>
          <a:xfrm>
            <a:off x="4140360" y="2997360"/>
            <a:ext cx="4546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Let’s look at HT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284640"/>
            <a:ext cx="82296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t’s go learn some cod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signing for the web in 2014 is much more about the content of the site and how the information is arranged. Simple or minimal designs are very pop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webby1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5520" y="4151160"/>
            <a:ext cx="4075200" cy="194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webby2.png"/>
          <p:cNvPicPr/>
          <p:nvPr/>
        </p:nvPicPr>
        <p:blipFill>
          <a:blip r:embed="rId3"/>
          <a:stretch/>
        </p:blipFill>
        <p:spPr>
          <a:xfrm>
            <a:off x="4643280" y="4151160"/>
            <a:ext cx="4024440" cy="1941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2354400" y="6294600"/>
            <a:ext cx="38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 u="sng">
                <a:solidFill>
                  <a:srgbClr val="ec4d4d"/>
                </a:solidFill>
                <a:uFillTx/>
                <a:latin typeface="Calibri"/>
                <a:hlinkClick r:id="rId4"/>
              </a:rPr>
              <a:t>Webby award winners for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28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Factors that have led to content being k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oneycomb.jpg"/>
          <p:cNvPicPr/>
          <p:nvPr/>
        </p:nvPicPr>
        <p:blipFill>
          <a:blip r:embed="rId1"/>
          <a:stretch/>
        </p:blipFill>
        <p:spPr>
          <a:xfrm>
            <a:off x="5076720" y="2565360"/>
            <a:ext cx="3830760" cy="4003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468360" y="2565360"/>
            <a:ext cx="460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732e9a"/>
                </a:solidFill>
                <a:latin typeface="Calibri"/>
              </a:rPr>
              <a:t>Usability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– or the ease of use of a site has become a big priority, especially for large corporations and government ag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Devices.png"/>
          <p:cNvPicPr/>
          <p:nvPr/>
        </p:nvPicPr>
        <p:blipFill>
          <a:blip r:embed="rId1"/>
          <a:stretch/>
        </p:blipFill>
        <p:spPr>
          <a:xfrm>
            <a:off x="4500720" y="2622600"/>
            <a:ext cx="4186080" cy="36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457200" y="2622600"/>
            <a:ext cx="389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ecause sites are shown on mobile platforms as well as desktops today – other factors such as data limits and lag times for mobiles affect what can be sh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ML5_Logo_512.png"/>
          <p:cNvPicPr/>
          <p:nvPr/>
        </p:nvPicPr>
        <p:blipFill>
          <a:blip r:embed="rId1"/>
          <a:stretch/>
        </p:blipFill>
        <p:spPr>
          <a:xfrm>
            <a:off x="6103800" y="3573360"/>
            <a:ext cx="2583000" cy="2581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TML5 is becoming the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b standard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d it’s biggest focus is on semantic co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mantic code reinforces the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ning of the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emphasises that website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hould have a hierarchy of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tent – which it calls the </a:t>
            </a:r>
            <a:br>
              <a:rPr sz="3200"/>
            </a:br>
            <a:r>
              <a:rPr b="0" lang="en-AU" sz="32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Documen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web standard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standards are rules to ensure that we make the most concise, clear code that is accessible to 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eb standards are developed and delivered by the W3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w3c.jpg"/>
          <p:cNvPicPr/>
          <p:nvPr/>
        </p:nvPicPr>
        <p:blipFill>
          <a:blip r:embed="rId1"/>
          <a:stretch/>
        </p:blipFill>
        <p:spPr>
          <a:xfrm>
            <a:off x="7000920" y="4797360"/>
            <a:ext cx="133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4" descr="bernersLee.bmp"/>
          <p:cNvPicPr/>
          <p:nvPr/>
        </p:nvPicPr>
        <p:blipFill>
          <a:blip r:embed="rId1"/>
          <a:stretch/>
        </p:blipFill>
        <p:spPr>
          <a:xfrm>
            <a:off x="6114960" y="3432240"/>
            <a:ext cx="2479680" cy="2968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72836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Who are the </a:t>
            </a:r>
            <a:r>
              <a:rPr b="0" lang="en-AU" sz="3000" spc="-1" strike="noStrike" u="sng">
                <a:solidFill>
                  <a:srgbClr val="ec4d4d"/>
                </a:solidFill>
                <a:uFillTx/>
                <a:latin typeface="Calibri"/>
                <a:hlinkClick r:id="rId2"/>
              </a:rPr>
              <a:t>W3C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world wide web consortium – is a community of member organizations, the w3c staff and the web development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community. They work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ogether to try to develop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tandards for the WW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Led by Tim Berners-Lee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 inventor of the internet) and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Jeffry Jaf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eb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w do users interface with the interf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can they don’t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tart from the top 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expect what they have seen before – so if something is underlined it’s probably a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like to keep control so things like pop-ups are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f_reading_pattern_eyetracking.jpg"/>
          <p:cNvPicPr/>
          <p:nvPr/>
        </p:nvPicPr>
        <p:blipFill>
          <a:blip r:embed="rId1"/>
          <a:stretch/>
        </p:blipFill>
        <p:spPr>
          <a:xfrm>
            <a:off x="4284720" y="4522680"/>
            <a:ext cx="42148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amazon.png"/>
          <p:cNvPicPr/>
          <p:nvPr/>
        </p:nvPicPr>
        <p:blipFill>
          <a:blip r:embed="rId1"/>
          <a:stretch/>
        </p:blipFill>
        <p:spPr>
          <a:xfrm>
            <a:off x="2892600" y="3068640"/>
            <a:ext cx="5794200" cy="3192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ings that are important in all designs are important on the web – so colours and contrast etc will say something about you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te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pace is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till very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mport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55992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How do users interface with the interf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07:12:17Z</dcterms:created>
  <dc:creator>Aaron Burnette</dc:creator>
  <dc:description/>
  <dc:language>en-US</dc:language>
  <cp:lastModifiedBy>Roger Blatchford</cp:lastModifiedBy>
  <dcterms:modified xsi:type="dcterms:W3CDTF">2014-10-14T13:01:15Z</dcterms:modified>
  <cp:revision>87</cp:revision>
  <dc:subject/>
  <dc:title>BCM 130 Week 2</dc:title>
</cp:coreProperties>
</file>