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B7DE-9CA8-4C14-AAC4-BE222EDC632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13/1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rrected year number to s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dded ending slide for ‘Feline 5 Star Accommodat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rights to original creator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PTIC NERV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0CF-56B6-4126-9862-70BEA450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FA6-EB49-43BE-8324-4E96235D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A6B-0285-4CDA-BF09-3EB0812F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8B5-E4AB-49B3-9165-CA38AC47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C08-3829-4E48-BEB7-86E6CC46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528-B018-4E25-90DA-1EBF284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BD5-2F0C-45E2-8D8B-7632F5D9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A45-84C4-4237-BD35-B796A062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E3D-D6D4-4E80-B2A1-76C48AEB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652-B142-4555-882A-51F5723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9C7-D465-4F8E-8BCC-91161A2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A5F-024C-4AC0-8C38-778E720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4045-0074-42ED-B6E4-7A8EDFCA3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eline5star.com.au/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feline5star.com.au/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638680"/>
            <a:ext cx="8458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6 is speeding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at_0024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6094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 daw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at_0026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53352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e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at_0028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7621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ember to la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at_002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76212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at_003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7621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t_0032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68580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ke new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at_0034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685800"/>
            <a:ext cx="2590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bove all … be  ready for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at_0035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685800"/>
            <a:ext cx="1523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ick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at_0037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609480"/>
            <a:ext cx="2895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you will be able to go f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at_0038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68580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ry f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60948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w we need to prepare to fac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at_003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685800"/>
            <a:ext cx="2743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ll, not quite that fa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at_004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60948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ways take time to smell the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60948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’t forget to enjoy and re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60948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never forget to love those dearest to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4876920"/>
            <a:ext cx="7086600" cy="15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God bl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1920"/>
            <a:ext cx="7248600" cy="981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1413000"/>
            <a:ext cx="647676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t_0006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352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re may be risks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at_000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76212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 may need to face road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at_001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6094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 stay al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at_0012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6094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hare time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at_0015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53352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ump over obsta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at_0018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53341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i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at_0020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525780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ca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4:45:38Z</dcterms:created>
  <dc:creator>EID</dc:creator>
  <dc:description/>
  <dc:language>en-US</dc:language>
  <cp:lastModifiedBy>Styx</cp:lastModifiedBy>
  <dcterms:modified xsi:type="dcterms:W3CDTF">2006-11-13T15:55:25Z</dcterms:modified>
  <cp:revision>17</cp:revision>
  <dc:subject/>
  <dc:title>No Slide Title</dc:title>
</cp:coreProperties>
</file>