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2A4A-ECAA-4DFE-9C1E-1832B8C61E3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13/1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rrected year number to s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dded ending slide for ‘Feline 5 Star Accommodat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ll rights to original creator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PTIC NERV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5B5-82E2-4D5C-AB10-A7902B8E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DC9-1C1B-40FD-8BE7-1C1ED23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C0B-5258-40C4-9DD7-CE827440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7D3-BB00-4EAD-8922-EF4640A4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3E5-50CE-4C42-8615-13644AEC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94B-DDBC-47C7-814E-469FBA01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2C4-1AF1-41C6-890D-1B53C26D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5B2-ACF6-43D0-96BB-453A122B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04E-1EFE-4BAD-976E-12CF7312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195-2B8D-4E21-B97C-1E930C1D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C2A-7096-44DD-8DF5-B6949A4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183-0E0C-4C35-80C6-DE6F1A09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FD7-51C7-4654-B154-AE895CA38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eline5star.com.au/" TargetMode="External"/><Relationship Id="rId2" Type="http://schemas.openxmlformats.org/officeDocument/2006/relationships/image" Target="../media/image24.png"/><Relationship Id="rId3" Type="http://schemas.openxmlformats.org/officeDocument/2006/relationships/hyperlink" Target="http://www.feline5star.com.au/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5638680"/>
            <a:ext cx="8458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06 is speeding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at_0024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6094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 daw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at_0026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53352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e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at_0028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080" y="76212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ember to la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at_0029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76212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at_0030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7621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t_0032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68580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ke new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at_0034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685800"/>
            <a:ext cx="2590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bove all … be  ready for adven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at_0035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685800"/>
            <a:ext cx="1523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ick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at_0037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609480"/>
            <a:ext cx="2895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you will be able to go f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at_0038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68580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ry f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60948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w we need to prepare to fac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at_0039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685800"/>
            <a:ext cx="2743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ll, not quite that fa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at_0040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609480"/>
            <a:ext cx="617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ways take time to smell the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2120" y="609480"/>
            <a:ext cx="1828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’t forget to enjoy and rel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60948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never forget to love those dearest to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4876920"/>
            <a:ext cx="7086600" cy="15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God bl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31920"/>
            <a:ext cx="7248600" cy="981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1413000"/>
            <a:ext cx="647676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t_0006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352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re may be risks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at_0009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76212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 may need to face road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at_0010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6094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 stay al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at_0012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6094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hare time with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at_0015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53352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ump over obsta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at_0018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53341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i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at_0020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525780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ca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4:45:38Z</dcterms:created>
  <dc:creator>EID</dc:creator>
  <dc:description/>
  <dc:language>en-US</dc:language>
  <cp:lastModifiedBy>Styx</cp:lastModifiedBy>
  <dcterms:modified xsi:type="dcterms:W3CDTF">2006-11-13T15:55:25Z</dcterms:modified>
  <cp:revision>17</cp:revision>
  <dc:subject/>
  <dc:title>No Slide Title</dc:title>
</cp:coreProperties>
</file>