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654E-62FC-457A-8BAA-5ACC47CC0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C3CB-F56D-4446-89A1-5D8FE50E5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8489-527A-4A28-A27D-BB271E90D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DBEE-C83D-42ED-BA43-85791547D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EDA4-4F77-471A-8FF2-DE2BF27A7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85D7-6AF7-44AD-88C9-F24009867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53F9-C73D-482C-82DD-8F1ED9E09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5AA9-214A-42E0-A520-0CB55C4D4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2289-9E07-43B2-9ABA-484690F09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93DC-C63B-4851-AC8C-0A8A8D614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4672-33BF-4F01-9350-7A76FB227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118F-9A01-42B8-9742-69ED41F1E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000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80512-7708-488B-83FB-F53773DB6FD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9.xml"/><Relationship Id="rId10" Type="http://schemas.openxmlformats.org/officeDocument/2006/relationships/slide" Target="slide10.xml"/><Relationship Id="rId11" Type="http://schemas.openxmlformats.org/officeDocument/2006/relationships/slide" Target="slide11.xml"/><Relationship Id="rId12" Type="http://schemas.openxmlformats.org/officeDocument/2006/relationships/slide" Target="slide13.xml"/><Relationship Id="rId13" Type="http://schemas.openxmlformats.org/officeDocument/2006/relationships/slide" Target="slide12.xml"/><Relationship Id="rId14" Type="http://schemas.openxmlformats.org/officeDocument/2006/relationships/slide" Target="slide14.xml"/><Relationship Id="rId15" Type="http://schemas.openxmlformats.org/officeDocument/2006/relationships/slide" Target="slide15.xml"/><Relationship Id="rId16" Type="http://schemas.openxmlformats.org/officeDocument/2006/relationships/slide" Target="slide16.xml"/><Relationship Id="rId17" Type="http://schemas.openxmlformats.org/officeDocument/2006/relationships/slide" Target="slide17.xml"/><Relationship Id="rId18" Type="http://schemas.openxmlformats.org/officeDocument/2006/relationships/slide" Target="slide18.xml"/><Relationship Id="rId19" Type="http://schemas.openxmlformats.org/officeDocument/2006/relationships/slide" Target="slide19.xml"/><Relationship Id="rId20" Type="http://schemas.openxmlformats.org/officeDocument/2006/relationships/slide" Target="slide20.xml"/><Relationship Id="rId21" Type="http://schemas.openxmlformats.org/officeDocument/2006/relationships/slide" Target="slide21.xml"/><Relationship Id="rId22" Type="http://schemas.openxmlformats.org/officeDocument/2006/relationships/slide" Target="slide23.xml"/><Relationship Id="rId23" Type="http://schemas.openxmlformats.org/officeDocument/2006/relationships/slide" Target="slide22.xml"/><Relationship Id="rId24" Type="http://schemas.openxmlformats.org/officeDocument/2006/relationships/slide" Target=""/><Relationship Id="rId2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000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676520" y="1828800"/>
            <a:ext cx="5976720" cy="4840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895480" y="0"/>
            <a:ext cx="2514600" cy="765000"/>
          </a:xfrm>
          <a:prstGeom prst="rect">
            <a:avLst/>
          </a:prstGeom>
          <a:solidFill>
            <a:srgbClr val="ff00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916360" y="0"/>
            <a:ext cx="249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66"/>
                </a:solidFill>
                <a:latin typeface="Times New Roman"/>
              </a:rPr>
              <a:t>Engine 1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2" action="ppaction://hlinksldjump"/>
          </p:cNvPr>
          <p:cNvSpPr/>
          <p:nvPr/>
        </p:nvSpPr>
        <p:spPr>
          <a:xfrm>
            <a:off x="7238880" y="4114800"/>
            <a:ext cx="540000" cy="36036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3" action="ppaction://hlinksldjump"/>
          </p:cNvPr>
          <p:cNvSpPr/>
          <p:nvPr/>
        </p:nvSpPr>
        <p:spPr>
          <a:xfrm>
            <a:off x="2666880" y="6497640"/>
            <a:ext cx="540000" cy="36036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4" action="ppaction://hlinksldjump"/>
          </p:cNvPr>
          <p:cNvSpPr/>
          <p:nvPr/>
        </p:nvSpPr>
        <p:spPr>
          <a:xfrm>
            <a:off x="609480" y="4572000"/>
            <a:ext cx="540000" cy="36036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5" action="ppaction://hlinksldjump"/>
          </p:cNvPr>
          <p:cNvSpPr/>
          <p:nvPr/>
        </p:nvSpPr>
        <p:spPr>
          <a:xfrm>
            <a:off x="7010280" y="3352680"/>
            <a:ext cx="540000" cy="36036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6" action="ppaction://hlinksldjump"/>
          </p:cNvPr>
          <p:cNvSpPr/>
          <p:nvPr/>
        </p:nvSpPr>
        <p:spPr>
          <a:xfrm>
            <a:off x="7391520" y="4724280"/>
            <a:ext cx="539640" cy="36036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7" action="ppaction://hlinksldjump"/>
          </p:cNvPr>
          <p:cNvSpPr/>
          <p:nvPr/>
        </p:nvSpPr>
        <p:spPr>
          <a:xfrm>
            <a:off x="4952880" y="6497640"/>
            <a:ext cx="540000" cy="36036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8" action="ppaction://hlinksldjump"/>
          </p:cNvPr>
          <p:cNvSpPr/>
          <p:nvPr/>
        </p:nvSpPr>
        <p:spPr>
          <a:xfrm>
            <a:off x="533520" y="5638680"/>
            <a:ext cx="539640" cy="38124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9" action="ppaction://hlinksldjump"/>
          </p:cNvPr>
          <p:cNvSpPr/>
          <p:nvPr/>
        </p:nvSpPr>
        <p:spPr>
          <a:xfrm>
            <a:off x="457200" y="3657600"/>
            <a:ext cx="539640" cy="36036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10" action="ppaction://hlinksldjump"/>
          </p:cNvPr>
          <p:cNvSpPr/>
          <p:nvPr/>
        </p:nvSpPr>
        <p:spPr>
          <a:xfrm>
            <a:off x="609480" y="2971800"/>
            <a:ext cx="540000" cy="36036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11" action="ppaction://hlinksldjump"/>
          </p:cNvPr>
          <p:cNvSpPr/>
          <p:nvPr/>
        </p:nvSpPr>
        <p:spPr>
          <a:xfrm>
            <a:off x="838080" y="2209680"/>
            <a:ext cx="540000" cy="36036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12" action="ppaction://hlinksldjump"/>
          </p:cNvPr>
          <p:cNvSpPr/>
          <p:nvPr/>
        </p:nvSpPr>
        <p:spPr>
          <a:xfrm>
            <a:off x="5562720" y="1219320"/>
            <a:ext cx="539640" cy="36036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3" action="ppaction://hlinksldjump"/>
          </p:cNvPr>
          <p:cNvSpPr/>
          <p:nvPr/>
        </p:nvSpPr>
        <p:spPr>
          <a:xfrm>
            <a:off x="7848720" y="2438280"/>
            <a:ext cx="539640" cy="36036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4" action="ppaction://hlinksldjump"/>
          </p:cNvPr>
          <p:cNvSpPr/>
          <p:nvPr/>
        </p:nvSpPr>
        <p:spPr>
          <a:xfrm>
            <a:off x="6858000" y="1371600"/>
            <a:ext cx="539640" cy="36036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5" action="ppaction://hlinksldjump"/>
          </p:cNvPr>
          <p:cNvSpPr/>
          <p:nvPr/>
        </p:nvSpPr>
        <p:spPr>
          <a:xfrm>
            <a:off x="8077320" y="457200"/>
            <a:ext cx="539640" cy="36036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16" action="ppaction://hlinksldjump"/>
          </p:cNvPr>
          <p:cNvSpPr/>
          <p:nvPr/>
        </p:nvSpPr>
        <p:spPr>
          <a:xfrm>
            <a:off x="6705720" y="5410080"/>
            <a:ext cx="539640" cy="36036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17" action="ppaction://hlinksldjump"/>
          </p:cNvPr>
          <p:cNvSpPr/>
          <p:nvPr/>
        </p:nvSpPr>
        <p:spPr>
          <a:xfrm>
            <a:off x="8305920" y="3809880"/>
            <a:ext cx="533160" cy="36828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18" action="ppaction://hlinksldjump"/>
          </p:cNvPr>
          <p:cNvSpPr/>
          <p:nvPr/>
        </p:nvSpPr>
        <p:spPr>
          <a:xfrm>
            <a:off x="8305920" y="4419720"/>
            <a:ext cx="539640" cy="36036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19" action="ppaction://hlinksldjump"/>
          </p:cNvPr>
          <p:cNvSpPr/>
          <p:nvPr/>
        </p:nvSpPr>
        <p:spPr>
          <a:xfrm>
            <a:off x="8305920" y="4952880"/>
            <a:ext cx="539640" cy="36036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20" action="ppaction://hlinksldjump"/>
          </p:cNvPr>
          <p:cNvSpPr/>
          <p:nvPr/>
        </p:nvSpPr>
        <p:spPr>
          <a:xfrm>
            <a:off x="4038480" y="4038480"/>
            <a:ext cx="540000" cy="36036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21" action="ppaction://hlinksldjump"/>
          </p:cNvPr>
          <p:cNvSpPr/>
          <p:nvPr/>
        </p:nvSpPr>
        <p:spPr>
          <a:xfrm>
            <a:off x="6553080" y="685800"/>
            <a:ext cx="540000" cy="36036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22" action="ppaction://hlinksldjump"/>
          </p:cNvPr>
          <p:cNvSpPr/>
          <p:nvPr/>
        </p:nvSpPr>
        <p:spPr>
          <a:xfrm>
            <a:off x="8153280" y="1752480"/>
            <a:ext cx="540000" cy="36036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23" action="ppaction://hlinksldjump"/>
          </p:cNvPr>
          <p:cNvSpPr/>
          <p:nvPr/>
        </p:nvSpPr>
        <p:spPr>
          <a:xfrm>
            <a:off x="4419720" y="3505320"/>
            <a:ext cx="539640" cy="36036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3048120" y="3657600"/>
            <a:ext cx="304560" cy="2819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1295280"/>
            <a:ext cx="2209680" cy="2057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181120" y="4876920"/>
            <a:ext cx="2210040" cy="75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43000" y="3124080"/>
            <a:ext cx="213372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4419720" y="6400440"/>
            <a:ext cx="45720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334120" y="2819520"/>
            <a:ext cx="259056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09720" y="3505320"/>
            <a:ext cx="160020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143000" y="4191120"/>
            <a:ext cx="18288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4800600" y="1600200"/>
            <a:ext cx="990720" cy="1523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90720" y="3809880"/>
            <a:ext cx="152388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066680" y="4724280"/>
            <a:ext cx="1981440" cy="10670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5409720" y="1066680"/>
            <a:ext cx="129564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5333760" y="1600200"/>
            <a:ext cx="144756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362320"/>
            <a:ext cx="2590920" cy="99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6171840" y="1981080"/>
            <a:ext cx="198108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588000" y="6035760"/>
            <a:ext cx="2232000" cy="825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hoose a Numb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rId24" action="ppaction://hlinksldjump"/>
          </p:cNvPr>
          <p:cNvSpPr/>
          <p:nvPr/>
        </p:nvSpPr>
        <p:spPr>
          <a:xfrm>
            <a:off x="1905120" y="914400"/>
            <a:ext cx="539640" cy="36036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81800" y="6308640"/>
            <a:ext cx="101592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End = Es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000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57992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821880" y="5734080"/>
            <a:ext cx="6633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The fuel is mixed with air in the carburetor.  The air/ fuel mixture 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Then put in the cylinders. 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This is called the Intake Stro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000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0832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-14040" y="5851440"/>
            <a:ext cx="10740600" cy="1008360"/>
          </a:xfrm>
          <a:prstGeom prst="rect">
            <a:avLst/>
          </a:prstGeom>
          <a:solidFill>
            <a:srgbClr val="1e00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Now the explosive mixture is in the cylinder, it must be crompressed prior to combustion.  The piston compresse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thie mixture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This is called the: </a:t>
            </a:r>
            <a:r>
              <a:rPr b="1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Compression Stro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000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-387360"/>
            <a:ext cx="9144000" cy="59976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6360" y="5781600"/>
            <a:ext cx="5366880" cy="734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Times New Roman"/>
              </a:rPr>
              <a:t>At an exact time, the spark plug ignites the mixture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Times New Roman"/>
              </a:rPr>
              <a:t>This is called the: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Ignition.  Stro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000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5818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-11160" y="5851440"/>
            <a:ext cx="8506440" cy="734040"/>
          </a:xfrm>
          <a:prstGeom prst="rect">
            <a:avLst/>
          </a:prstGeom>
          <a:solidFill>
            <a:srgbClr val="1e00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The piston is forced down violently during the ignition stroke then rises again to expell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Burned gasses.  This is the: </a:t>
            </a:r>
            <a:r>
              <a:rPr b="1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Exhaust Stro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000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-2209680" y="0"/>
            <a:ext cx="11353680" cy="79516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437800" y="2492280"/>
            <a:ext cx="294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Times New Roman"/>
              </a:rPr>
              <a:t>Four Valv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000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39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22560" y="6019920"/>
            <a:ext cx="609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imes New Roman"/>
              </a:rPr>
              <a:t>Direct injection: JTD, TDI, HD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000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059280" y="2293920"/>
            <a:ext cx="6084720" cy="45640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067280" cy="31719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971800" y="533520"/>
            <a:ext cx="838080" cy="4038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228600"/>
            <a:ext cx="2057400" cy="5257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24280" y="990720"/>
            <a:ext cx="2895840" cy="428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029200" y="3429000"/>
            <a:ext cx="3886200" cy="1752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5029200"/>
            <a:ext cx="241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Times New Roman"/>
              </a:rPr>
              <a:t>Crank shaft and pist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000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1055520"/>
            <a:ext cx="9144000" cy="58024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667960" y="571500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MO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114800" cy="3292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375920" y="3886200"/>
            <a:ext cx="28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TURBOCHAR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000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960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512520" y="5867280"/>
            <a:ext cx="4836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TWIN TURBO: There are two turbine wheels on o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axis.  One is driven by the exhaust fumes, the oth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sucks the mixture and pumps it into the cylind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000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483920" cy="6959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254480" y="5805360"/>
            <a:ext cx="448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This increases the amount of air that injected i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combustion chamb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000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320" y="-14400"/>
            <a:ext cx="8915400" cy="6872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550880" y="350028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3300"/>
                </a:solidFill>
                <a:latin typeface="Times New Roman"/>
              </a:rPr>
              <a:t>PIS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24000" y="4076640"/>
            <a:ext cx="0" cy="936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000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60544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Before the INVENTION of the Turbo more cylinders were needed to boost perform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000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296280" cy="6885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752760" y="0"/>
            <a:ext cx="81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Times New Roman"/>
              </a:rPr>
              <a:t>Principle of the direct injection: the mixture is injected directly into the cylinder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Times New Roman"/>
              </a:rPr>
              <a:t>The direct injection is possible by the use of a high pressure pump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000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60008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0" y="152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This is an example of an IN-LINE 4 CYLINDER Eng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000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6150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3492360" y="0"/>
            <a:ext cx="5651640" cy="22226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 flipH="1">
            <a:off x="2819520" y="2349360"/>
            <a:ext cx="1823760" cy="25275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2209680" y="2514600"/>
            <a:ext cx="1076400" cy="3808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7812000" y="2362320"/>
            <a:ext cx="36720" cy="19303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3048120" y="914400"/>
            <a:ext cx="4572000" cy="44197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895480" y="457200"/>
            <a:ext cx="1998720" cy="30481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0920" y="85680"/>
            <a:ext cx="32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ooling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000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-228600" y="0"/>
            <a:ext cx="10285560" cy="69580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037760" y="1905120"/>
            <a:ext cx="180216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YL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257800" y="2438280"/>
            <a:ext cx="838080" cy="838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000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-228600" y="0"/>
            <a:ext cx="9601200" cy="69152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726880" y="6093000"/>
            <a:ext cx="308556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mbustion Cha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 flipV="1">
            <a:off x="4876920" y="4876560"/>
            <a:ext cx="847440" cy="1360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000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261760" y="5486400"/>
            <a:ext cx="224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3300"/>
                </a:solidFill>
                <a:latin typeface="Times New Roman"/>
              </a:rPr>
              <a:t>LUBR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000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-457200" y="0"/>
            <a:ext cx="10588680" cy="70120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-152280" y="38862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il P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752480" y="419112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162864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ff33"/>
                </a:solidFill>
                <a:latin typeface="Times New Roman"/>
              </a:rPr>
              <a:t>Crank Sha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80000" y="2133720"/>
            <a:ext cx="1020600" cy="76176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175440" y="22860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IS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7162920" y="2422440"/>
            <a:ext cx="914400" cy="92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000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-304920" y="0"/>
            <a:ext cx="10515600" cy="70088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220760" y="304920"/>
            <a:ext cx="679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The Crank shaft rotates in the oil pan and splas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Oil on to the pist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000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217080" cy="60008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64760" y="5605560"/>
            <a:ext cx="3362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Times New Roman"/>
              </a:rPr>
              <a:t>Both sides are lubricated in order t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Times New Roman"/>
              </a:rPr>
              <a:t>Reduce fric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000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295280" y="0"/>
            <a:ext cx="7848720" cy="58863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826920" y="6021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0520" y="5037120"/>
            <a:ext cx="8091720" cy="1067400"/>
          </a:xfrm>
          <a:prstGeom prst="rect">
            <a:avLst/>
          </a:prstGeom>
          <a:solidFill>
            <a:srgbClr val="1e00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 u="sng">
                <a:solidFill>
                  <a:srgbClr val="ffffff"/>
                </a:solidFill>
                <a:uFillTx/>
                <a:latin typeface="Times New Roman"/>
              </a:rPr>
              <a:t>Basic Operaion</a:t>
            </a:r>
            <a:r>
              <a:rPr b="1" lang="fr-FR" sz="16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A motor has several cavitvities called cylinders.  The piston moves up and down in the cyli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Thus converting vertical movement into rotary movement.  This rotary movement is transfered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The wheels through a gear box to the whe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1T09:50:01Z</dcterms:created>
  <dc:creator>Thomas Gräfe</dc:creator>
  <dc:description/>
  <dc:language>en-US</dc:language>
  <cp:lastModifiedBy>Tony Petrecca</cp:lastModifiedBy>
  <dcterms:modified xsi:type="dcterms:W3CDTF">2005-03-10T21:27:13Z</dcterms:modified>
  <cp:revision>52</cp:revision>
  <dc:subject/>
  <dc:title>PowerPoint-Präsentation</dc:title>
</cp:coreProperties>
</file>