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E80-8333-4346-BE14-2FD62FEF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C2A-8306-4855-AFC2-A45A09C0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04C-37B0-4063-84EC-994E1CA1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A63-B02B-42ED-9682-6E577301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ECC-AF7A-4CC5-BD1B-6B6CF906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34C-16F6-4E8E-99C2-FC1E6E68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E6B-4955-4B0D-B978-62ACCA87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A94-7FE2-4D73-86D9-1DF8CA69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965-1D6A-44FF-96B6-C2F57C6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C83-9DD5-4B0A-A08D-DDC63E96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363-52F1-444C-93FF-F1C707C3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A17-1CF3-4A43-8640-D61B431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C14E-7F34-47B7-9544-D7EBAAB880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2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" Target="slide23.xml"/><Relationship Id="rId23" Type="http://schemas.openxmlformats.org/officeDocument/2006/relationships/slide" Target="slide22.xml"/><Relationship Id="rId24" Type="http://schemas.openxmlformats.org/officeDocument/2006/relationships/slide" Target="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976720" cy="4840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0"/>
            <a:ext cx="2514600" cy="765000"/>
          </a:xfrm>
          <a:prstGeom prst="rect">
            <a:avLst/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0"/>
            <a:ext cx="24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Engine 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7238880" y="411480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2666880" y="649764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609480" y="457200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7010280" y="335268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7391520" y="472428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4952880" y="649764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8" action="ppaction://hlinksldjump"/>
          </p:cNvPr>
          <p:cNvSpPr/>
          <p:nvPr/>
        </p:nvSpPr>
        <p:spPr>
          <a:xfrm>
            <a:off x="533520" y="5638680"/>
            <a:ext cx="539640" cy="381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457200" y="365760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609480" y="297180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838080" y="220968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5562720" y="121932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7848720" y="243828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6858000" y="137160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8077320" y="45720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6705720" y="541008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8305920" y="3809880"/>
            <a:ext cx="533160" cy="368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8305920" y="441972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8305920" y="495288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0" action="ppaction://hlinksldjump"/>
          </p:cNvPr>
          <p:cNvSpPr/>
          <p:nvPr/>
        </p:nvSpPr>
        <p:spPr>
          <a:xfrm>
            <a:off x="4038480" y="403848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1" action="ppaction://hlinksldjump"/>
          </p:cNvPr>
          <p:cNvSpPr/>
          <p:nvPr/>
        </p:nvSpPr>
        <p:spPr>
          <a:xfrm>
            <a:off x="6553080" y="68580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2" action="ppaction://hlinksldjump"/>
          </p:cNvPr>
          <p:cNvSpPr/>
          <p:nvPr/>
        </p:nvSpPr>
        <p:spPr>
          <a:xfrm>
            <a:off x="8153280" y="175248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3" action="ppaction://hlinksldjump"/>
          </p:cNvPr>
          <p:cNvSpPr/>
          <p:nvPr/>
        </p:nvSpPr>
        <p:spPr>
          <a:xfrm>
            <a:off x="4419720" y="350532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048120" y="3657600"/>
            <a:ext cx="30456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295280"/>
            <a:ext cx="2209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81120" y="4876920"/>
            <a:ext cx="22100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124080"/>
            <a:ext cx="21337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419720" y="640044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34120" y="281952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09720" y="35053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143000" y="4191120"/>
            <a:ext cx="1828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800600" y="1600200"/>
            <a:ext cx="9907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809880"/>
            <a:ext cx="1523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66680" y="4724280"/>
            <a:ext cx="198144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409720" y="1066680"/>
            <a:ext cx="12956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333760" y="1600200"/>
            <a:ext cx="1447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362320"/>
            <a:ext cx="25909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71840" y="1981080"/>
            <a:ext cx="19810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8000" y="6035760"/>
            <a:ext cx="22320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oose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24" action="ppaction://hlinksldjump"/>
          </p:cNvPr>
          <p:cNvSpPr/>
          <p:nvPr/>
        </p:nvSpPr>
        <p:spPr>
          <a:xfrm>
            <a:off x="1905120" y="914400"/>
            <a:ext cx="539640" cy="3603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800" y="6308640"/>
            <a:ext cx="1015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nd = E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1880" y="5734080"/>
            <a:ext cx="6633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e fuel is mixed with air in the carburetor.  The air/ fuel mixtur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en put in the cylinders.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his is called the Intake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4040" y="5851440"/>
            <a:ext cx="10740600" cy="1008360"/>
          </a:xfrm>
          <a:prstGeom prst="rect">
            <a:avLst/>
          </a:prstGeom>
          <a:solidFill>
            <a:srgbClr val="1e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ow the explosive mixture is in the cylinder, it must be crompressed prior to combustion.  The piston compres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ie mixtur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is is called the: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pression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387360"/>
            <a:ext cx="9144000" cy="599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6360" y="5781600"/>
            <a:ext cx="536688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At an exact time, the spark plug ignites the mixtur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This is called the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gnition. 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1160" y="5851440"/>
            <a:ext cx="8506440" cy="734040"/>
          </a:xfrm>
          <a:prstGeom prst="rect">
            <a:avLst/>
          </a:prstGeom>
          <a:solidFill>
            <a:srgbClr val="1e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e piston is forced down violently during the ignition stroke then rises again to expell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Burned gasses.  This is the: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haust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09680" y="0"/>
            <a:ext cx="11353680" cy="7951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7800" y="249228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Four Valv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22560" y="6019920"/>
            <a:ext cx="60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irect injection: JTD, TDI, H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2293920"/>
            <a:ext cx="6084720" cy="4564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3171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971800" y="533520"/>
            <a:ext cx="838080" cy="403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28600"/>
            <a:ext cx="2057400" cy="525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2895840" cy="42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429000"/>
            <a:ext cx="388620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29200"/>
            <a:ext cx="24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Crank shaft and pi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055520"/>
            <a:ext cx="9144000" cy="5802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667960" y="5715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3292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5920" y="38862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URBOCH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12520" y="5867280"/>
            <a:ext cx="483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WIN TURBO: There are two turbine wheels on 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xis.  One is driven by the exhaust fumes, the 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ucks the mixture and pumps it into the cylind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83920" cy="695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54480" y="5805360"/>
            <a:ext cx="448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his increases the amount of air that inj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mbustion cha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-14400"/>
            <a:ext cx="891540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50880" y="35002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076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54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Before the INVENTION of the Turbo more cylinders were needed to boost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296280" cy="688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2760" y="0"/>
            <a:ext cx="81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Principle of the direct injection: the mixture is injected directly into the cylinde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The direct injection is possible by the use of a high pressure pum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his is an example of an IN-LINE 4 CYLINDER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615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92360" y="0"/>
            <a:ext cx="5651640" cy="222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2819520" y="2349360"/>
            <a:ext cx="1823760" cy="2527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09680" y="2514600"/>
            <a:ext cx="1076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812000" y="2362320"/>
            <a:ext cx="36720" cy="1930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914400"/>
            <a:ext cx="4572000" cy="4419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95480" y="457200"/>
            <a:ext cx="1998720" cy="304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920" y="856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ol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0"/>
            <a:ext cx="10285560" cy="6958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37760" y="1905120"/>
            <a:ext cx="1802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438280"/>
            <a:ext cx="83808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0"/>
            <a:ext cx="9601200" cy="6915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26880" y="6093000"/>
            <a:ext cx="3085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bustion Ch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876920" y="4876560"/>
            <a:ext cx="847440" cy="136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61760" y="548640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457200" y="0"/>
            <a:ext cx="10588680" cy="701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52280" y="3886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il 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1911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628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ff33"/>
                </a:solidFill>
                <a:latin typeface="Times New Roman"/>
              </a:rPr>
              <a:t>Crank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2133720"/>
            <a:ext cx="1020600" cy="7617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5440" y="2286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162920" y="2422440"/>
            <a:ext cx="914400" cy="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0"/>
            <a:ext cx="10515600" cy="700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20760" y="30492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he Crank shaft rotates in the oil pan and spl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il on to the pis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17080" cy="6000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760" y="5605560"/>
            <a:ext cx="33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Both sides are lubricated in order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Reduce fri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602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20" y="5037120"/>
            <a:ext cx="8091720" cy="1067400"/>
          </a:xfrm>
          <a:prstGeom prst="rect">
            <a:avLst/>
          </a:prstGeom>
          <a:solidFill>
            <a:srgbClr val="1e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Times New Roman"/>
              </a:rPr>
              <a:t>Basic Operaion</a:t>
            </a:r>
            <a:r>
              <a:rPr b="1" lang="fr-FR" sz="1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 motor has several cavitvities called cylinders.  The piston moves up and down in the cyli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Thus converting vertical movement into rotary movement.  This rotary movement is transfe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The wheels through a gear box to the whe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09:50:01Z</dcterms:created>
  <dc:creator>Thomas Gräfe</dc:creator>
  <dc:description/>
  <dc:language>en-US</dc:language>
  <cp:lastModifiedBy>Tony Petrecca</cp:lastModifiedBy>
  <dcterms:modified xsi:type="dcterms:W3CDTF">2005-03-10T21:27:13Z</dcterms:modified>
  <cp:revision>52</cp:revision>
  <dc:subject/>
  <dc:title>PowerPoint-Präsentation</dc:title>
</cp:coreProperties>
</file>